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C9A9-9EB5-4F86-A3C3-88ECB851A8A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D064-EE29-4BE3-810C-03A8EA5FD82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E346-FD6E-404E-B192-68A533945C1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247E-BA20-4C61-8726-07859655A28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FED2-D65B-4716-BD00-55E0CC99FC3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63D9-199E-4A29-814F-DD2A18857F9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0AAA-98B9-4D38-96C5-CF942421985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8605-8EB4-48FA-9B78-35A9A099BA1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F81E-E450-4EC4-8EF0-A3216C06DAB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1451-470B-4CC8-BC8C-9DCED57B497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2851-3DA8-46A0-939D-6FDF600E69D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D45E-6566-4FDA-8D11-D0048F1891A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FDCD-6AC2-4297-8408-221F40B49EB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AAC0-02E3-4982-BC19-B7AB22D7BC1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C27C-BF02-4C6D-86E9-A4F06C0E772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181-30F4-41D1-8CD2-B13390B9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776-74FA-407E-9834-0F297CD3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1A01-70E5-4976-98A2-117585DE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F95-4696-4CCA-AD6E-4BD3AF61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D62-B596-4FA7-A7D8-4E0C3905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4D1-B38B-4115-8D32-E1F27C2C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1E30-5E44-4D71-8A49-4A4B9A8B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669-FC70-45D5-A3F3-D14B41EC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7CF-8D77-48DC-90DB-7DBB030A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9E3-FEE6-46D7-B557-C9656236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F7C-F9D6-43C7-ADA9-D3122C97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B23B-F820-4B6E-85A3-300277FD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793A-BE2B-4E44-B9FB-11265F429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68360" y="3429000"/>
                <a:ext cx="676908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ξ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η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ζ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okalni izvod vektora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lim>
                        </m:limLow>
                      </m:e>
                    </m:eqAr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ζ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- sferno kretanje tacke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oko 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" name="Object 10"/>
          <p:cNvGraphicFramePr/>
          <p:nvPr/>
        </p:nvGraphicFramePr>
        <p:xfrm>
          <a:off x="5219640" y="1773360"/>
          <a:ext cx="374328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374328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3" name="Object 4"/>
          <p:cNvGraphicFramePr/>
          <p:nvPr/>
        </p:nvGraphicFramePr>
        <p:xfrm>
          <a:off x="773280" y="1197000"/>
          <a:ext cx="7237080" cy="53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1197000"/>
                    <a:ext cx="723708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611280" y="1989000"/>
                <a:ext cx="8208720" cy="473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  <m:r>
                              <m:t xml:space="preserve">'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đ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</m:eqArr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5"/>
          <p:cNvGraphicFramePr/>
          <p:nvPr/>
        </p:nvGraphicFramePr>
        <p:xfrm>
          <a:off x="3851280" y="1052640"/>
          <a:ext cx="34354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052640"/>
                    <a:ext cx="34354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6"/>
          <p:cNvSpPr/>
          <p:nvPr/>
        </p:nvSpPr>
        <p:spPr>
          <a:xfrm>
            <a:off x="6877080" y="342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3" name="Object 4"/>
          <p:cNvGraphicFramePr/>
          <p:nvPr/>
        </p:nvGraphicFramePr>
        <p:xfrm>
          <a:off x="1476360" y="3284640"/>
          <a:ext cx="6767640" cy="32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84640"/>
                    <a:ext cx="676764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539640" y="1557360"/>
                <a:ext cx="48974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lim>
                        </m:limLow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6"/>
          <p:cNvSpPr/>
          <p:nvPr/>
        </p:nvSpPr>
        <p:spPr>
          <a:xfrm>
            <a:off x="3132000" y="2492280"/>
            <a:ext cx="60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Elementar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u međusobno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39640" y="3068640"/>
            <a:ext cx="601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eđusobno nisu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68360" y="623736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, konačni položaj tela zavisi od redosleda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826920" y="4238640"/>
                <a:ext cx="158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4284720" y="4221000"/>
                <a:ext cx="1563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A IZMEĐU VEKTORA ELEM. ROTACIJE I ELEM. PRIRAŠTAJA OJLEROVIH UG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468360" y="1628640"/>
                <a:ext cx="7848720" cy="509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24000" y="386064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.                                                                              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19280" y="1341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4716360" y="126828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26920" y="2205000"/>
                <a:ext cx="4016520" cy="28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900000" y="2637000"/>
                <a:ext cx="4000680" cy="34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2050920" y="3716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ugaonog ubrz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7164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BRZ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684360" y="2852640"/>
                <a:ext cx="5329080" cy="32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od translatornog kretanja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otaciono ubrzanje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R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aksipetalno ubrzan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/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je u ravn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trenutnu osu i usmereno od P ka os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4" name="Object 6"/>
          <p:cNvGraphicFramePr/>
          <p:nvPr/>
        </p:nvGraphicFramePr>
        <p:xfrm>
          <a:off x="5635800" y="1557360"/>
          <a:ext cx="31525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5800" y="1557360"/>
                    <a:ext cx="31525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2987640" y="1628640"/>
                <a:ext cx="25210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826920" y="2852640"/>
                <a:ext cx="4032360" cy="36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</m:e>
                          <m:e/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x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y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ξ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η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ζ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Text Box 5"/>
          <p:cNvSpPr/>
          <p:nvPr/>
        </p:nvSpPr>
        <p:spPr>
          <a:xfrm>
            <a:off x="755640" y="17002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5564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SFERNO KRET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1"/>
          <p:cNvGraphicFramePr/>
          <p:nvPr/>
        </p:nvGraphicFramePr>
        <p:xfrm>
          <a:off x="5087880" y="2421000"/>
          <a:ext cx="38149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87880" y="2421000"/>
                    <a:ext cx="38149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13"/>
          <p:cNvSpPr/>
          <p:nvPr/>
        </p:nvSpPr>
        <p:spPr>
          <a:xfrm>
            <a:off x="1835280" y="422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tač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a u trenut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ipada trenutnoj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84360" y="1916280"/>
                <a:ext cx="561636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eqArr>
                                  <m:e>
                                    <m:d>
                                      <m:dPr>
                                        <m:begChr m:val=""/>
                                        <m:endChr m:val="}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=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z</m:t>
                                            </m:r>
                                          </m:sub>
                                        </m:sSub>
                                        <m:r>
                                          <m:t xml:space="preserve">y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   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y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r>
                                          <m:t xml:space="preserve">=</m:t>
                                        </m:r>
                                        <m:f>
                                          <m:num>
                                            <m:r>
                                              <m:t xml:space="preserve">z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z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  <m:e/>
                                    </m:d>
                                  </m:e>
                                </m:eqArr>
                              </m:e>
                              <m:e/>
                              <m:e/>
                              <m:e/>
                            </m:d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Text Box 9"/>
          <p:cNvSpPr/>
          <p:nvPr/>
        </p:nvSpPr>
        <p:spPr>
          <a:xfrm>
            <a:off x="6516720" y="2421000"/>
            <a:ext cx="262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čina trenut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e u sistemu x, y,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rostorna deskri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0"/>
          <p:cNvGraphicFramePr/>
          <p:nvPr/>
        </p:nvGraphicFramePr>
        <p:xfrm>
          <a:off x="4572000" y="2492280"/>
          <a:ext cx="187308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92280"/>
                    <a:ext cx="187308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3" name="Object 9"/>
          <p:cNvGraphicFramePr/>
          <p:nvPr/>
        </p:nvGraphicFramePr>
        <p:xfrm>
          <a:off x="324000" y="2112840"/>
          <a:ext cx="20160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12840"/>
                    <a:ext cx="20160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684360" y="1989000"/>
                <a:ext cx="3754440" cy="453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Text Box 5"/>
          <p:cNvSpPr/>
          <p:nvPr/>
        </p:nvSpPr>
        <p:spPr>
          <a:xfrm>
            <a:off x="900000" y="1557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sti nač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68360" y="2565360"/>
            <a:ext cx="28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Jednačina trenutne ose u materijalnoj deskrip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276720" y="494172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ne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03640" y="5877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1"/>
          <p:cNvGraphicFramePr/>
          <p:nvPr/>
        </p:nvGraphicFramePr>
        <p:xfrm>
          <a:off x="4716360" y="1052640"/>
          <a:ext cx="3816360" cy="31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052640"/>
                    <a:ext cx="381636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3"/>
          <p:cNvSpPr/>
          <p:nvPr/>
        </p:nvSpPr>
        <p:spPr>
          <a:xfrm>
            <a:off x="7451640" y="2637000"/>
            <a:ext cx="230508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snop trenutnih 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rotacije (nepokretni aksoid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4"/>
          <p:cNvGraphicFramePr/>
          <p:nvPr/>
        </p:nvGraphicFramePr>
        <p:xfrm>
          <a:off x="5651640" y="3716280"/>
          <a:ext cx="3024000" cy="295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3716280"/>
                    <a:ext cx="30240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15"/>
          <p:cNvSpPr/>
          <p:nvPr/>
        </p:nvSpPr>
        <p:spPr>
          <a:xfrm>
            <a:off x="7451640" y="5373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pokretni aks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900000" y="5373720"/>
                <a:ext cx="27370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1042920" y="2492280"/>
                <a:ext cx="3529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Text Box 5"/>
          <p:cNvSpPr/>
          <p:nvPr/>
        </p:nvSpPr>
        <p:spPr>
          <a:xfrm>
            <a:off x="826920" y="1484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ROTACIJ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826920" y="1916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ecijalni slučaj sfernog kretanja je obrtanje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26920" y="4005360"/>
            <a:ext cx="36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 odnosn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edsatvljaju pravu u koju degenerišu oba aksoida za ovaj slučaj kre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427640" y="2205000"/>
          <a:ext cx="355572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205000"/>
                    <a:ext cx="35557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900000" y="2637000"/>
                <a:ext cx="4608720" cy="37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ξ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ζ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Ovde vektor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je funkcija vremena!!!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groupChr>
                      </m:e>
                      <m:lim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/>
                        </m:limUpp>
                      </m:lim>
                    </m:limLow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826920" y="1484280"/>
            <a:ext cx="813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a tačka se kreće po telu čije je kretanje zadato. Kretanje tačke po telu nazivamo relativnim, a kretanje tela nazivamo prenosnim kretanj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4284720" y="2448000"/>
          <a:ext cx="460836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48000"/>
                    <a:ext cx="46083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23T07:25:22Z</dcterms:modified>
  <cp:revision>296</cp:revision>
  <dc:subject/>
  <dc:title>ТЕХНИЧКА МЕХАНИКА 2</dc:title>
</cp:coreProperties>
</file>